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BAB-E0A3-4EFA-B763-DD86BB1D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0516-5120-4C78-BDCE-67B1F764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4FC-E11F-4D22-B81A-2CB6ABAC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A74-0C2E-471F-BBEC-6F580905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6EA8-8645-4A69-844C-E1F1FB6D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F003-E29F-4F36-A1D9-218EDEC2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6934-21B6-4A09-B520-38983C6C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97CC-B79E-4EC0-B4B1-4BCD14DC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5086-DB72-488D-A278-ACF77613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9B86-B834-4AD8-BE8F-0E592CCE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3448-D4D2-4E50-B99C-C986751B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6265-A093-4A19-896F-64C27047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9194-D133-4F7D-B5D4-7F9B6152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2DB8-51EE-47AE-8359-AB9DF7C8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3830-5F07-4357-8F84-8F14AD09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E530-B97C-4670-A629-4E78BB0C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A267-15B6-4467-8A62-1A42269E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B475-51FA-4103-B210-F376084D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A9F-3680-4084-A866-9F2E06CE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227C-337E-4249-83B6-C1B61DEB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D91B-8CB9-4CB6-89B0-FB584477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290-A0CC-4FEC-A8A4-94EA7238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DFE-1D46-4B13-B065-0BAEFF41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86E7-9707-4173-845D-59EC24D9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4857-E032-4F83-91FF-860BB7EFC2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18ED-FA65-40B0-8F7F-2F820E52C9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hnpQrMqDoqE&amp;feature=related" TargetMode="External"/><Relationship Id="rId3" Type="http://schemas.openxmlformats.org/officeDocument/2006/relationships/hyperlink" Target="http://www.youtube.com/watch?v=hnpQrMqDoqE&amp;feature=related" TargetMode="External"/><Relationship Id="rId4" Type="http://schemas.openxmlformats.org/officeDocument/2006/relationships/hyperlink" Target="http://www.youtube.com/watch?v=hnpQrMqDoqE&amp;feature=related" TargetMode="External"/><Relationship Id="rId5" Type="http://schemas.openxmlformats.org/officeDocument/2006/relationships/hyperlink" Target="http://www.youtube.com/watch?v=hnpQrMqDoqE&amp;feature=related" TargetMode="External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TSzx_bAKvuM" TargetMode="External"/><Relationship Id="rId3" Type="http://schemas.openxmlformats.org/officeDocument/2006/relationships/hyperlink" Target="http://www.youtube.com/watch?v=TSzx_bAKvuM" TargetMode="External"/><Relationship Id="rId4" Type="http://schemas.openxmlformats.org/officeDocument/2006/relationships/hyperlink" Target="http://www.youtube.com/watch?v=TSzx_bAKvu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Georgia"/>
              </a:rPr>
              <a:t>Stress</a:t>
            </a:r>
            <a:r>
              <a:rPr b="0" lang="en-US" sz="6600" spc="-1" strike="noStrike">
                <a:solidFill>
                  <a:srgbClr val="b7e7ff"/>
                </a:solidFill>
                <a:latin typeface="Georgia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Georgia"/>
              </a:rPr>
              <a:t>Management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Let it Go”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819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get a name tag and marker, then write your name on your name tag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495288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60958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Managing Stress -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Brainsmart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 - BBC -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YouTu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22860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nger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leeplessnes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Butterflies / Knot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old hands / Dry mouth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eadach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hange in Appetit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n’t Concentrat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Overwhelmed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360" y="5599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7680" y="5522760"/>
            <a:ext cx="82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/>
          </p:cNvPr>
          <p:cNvSpPr/>
          <p:nvPr/>
        </p:nvSpPr>
        <p:spPr>
          <a:xfrm>
            <a:off x="6781680" y="6216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Funny Clip ~ Stress At office -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YouTu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05:07:46Z</dcterms:created>
  <dc:creator>Chris Liles</dc:creator>
  <dc:description/>
  <dc:language>en-US</dc:language>
  <cp:lastModifiedBy>Chris Liles</cp:lastModifiedBy>
  <dcterms:modified xsi:type="dcterms:W3CDTF">2012-06-13T06:30:22Z</dcterms:modified>
  <cp:revision>2</cp:revision>
  <dc:subject/>
  <dc:title>Stress Management</dc:title>
</cp:coreProperties>
</file>